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2CFD-8942-45D7-A093-DB27FFA2E9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FCA-C041-44F1-B926-22A91859DC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63CD-754B-43EB-B822-2486492FA1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858-5264-473D-9E46-B41B88F8AE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B3C9-142D-4FDC-960E-6B3507F9B6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F8B-A022-48E7-A3E8-8EB7F136A2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160-6292-46D6-91D2-DD6DF65A42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FB9-1282-4FE6-A4A8-D6209DD4B5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C1B-5767-469D-AD0A-518B5C23A1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88C1-59BC-4FDC-9866-8331D5C0EE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FDB2-820A-40C5-9699-8584D34146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415-A741-4F2D-A7C6-6ED0F7D1DA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9F2-FAA1-403F-B376-89CF72ACFA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3390-973F-43B4-8322-2D830387AC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9C1-4A21-4A51-93F4-6770FA3349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0D2-F75B-4C46-951D-1D35A197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409-E1AC-4F48-A7AA-E16FC69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C76-3AE4-483E-9F49-10A04067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7A8-E27B-46DD-862B-1B5FA997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F9C6-898D-47BA-B1E1-1B5F6061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1BF-7AA6-44EB-B22C-33B252D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F6C-DAFE-4DB5-A176-4AD49A6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7E9-24DB-4131-A2D0-70A1EBF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04B8-D72B-48D4-9D57-6744807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228E-32B5-418E-9E9C-66B2CDC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50E-FE0F-4D91-9D83-3CE9379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EC5-F25C-46F2-9295-D49F8CD1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6647-4869-452C-88F8-D378E9A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F1E-3C5D-42B9-A698-D1D72AB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1FDC-0E97-49E5-B1C8-A2F5EAD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CB12-0F2C-49F3-B335-8342B69C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A07A-1C61-40A9-96C3-FEA7E631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B94-90EE-49ED-8A6D-254A824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83E-6E05-4D8F-B883-8A10F07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192-96A1-4F18-BADC-75DD9862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AEF-F48D-45BE-BC74-A3FED6EC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26E-EC96-43D0-B6B1-66C3A1C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4D3-FD23-456A-9562-8CB9E9B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040-72B1-418B-AF8C-942C38F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E72-16B4-4BA7-A3B1-B37ACDA9AFF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3708-C768-4C7A-8759-264A49C410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tical Perspectives in th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Introduction to A2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ction B: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edia and Collective Ident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the contemporary media represe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ac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in different 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contemporary representation compare to previous time peri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social implications of different media representations of this group of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what extent is human identity increasingly ‘mediated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B: Two Media focu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resentations of black people with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ilms: In the UK and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usic Videos: Hip-Hop, Rap &amp; Grime in the UK and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is meant by representat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0200" y="1267920"/>
            <a:ext cx="846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derstanding of representational issues and th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‘flui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f representation’.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is collective ident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concept of a collective identity refers to a set of individuals' sense of belonging to the group or collectiv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the individual, the identity derived from the collective shapes a part of his or her personal ident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llective Identity is the idea that through participating in social activities, individuals can gain a sense of belonging and in essence an "identity" that transcends the individu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elate to </a:t>
            </a:r>
            <a:r>
              <a:rPr b="0" i="1" lang="en-GB" sz="3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lif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fferent groups or collectives do you belong to? This can relate to something social, ethnicity, country, religious group, gender, age group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feel, being a part of this group/collec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feel when with this group/coll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group/collective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do you associate with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81360"/>
            <a:ext cx="4751640" cy="309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3041640"/>
            <a:ext cx="345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does the media associate with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781360"/>
            <a:ext cx="4751640" cy="309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3041640"/>
            <a:ext cx="345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r personal views differ from the media 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media’s view is base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e Study Fil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ocial/political events at the time may affect the representations within these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tions is the exam broken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itle of section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ways in which the media view black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film we are studying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e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llective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in understanding of course structure and requirements for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concepts in section B of the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the case studies for th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4 different roles that you feel black people within the media fit i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use images to support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y you believe these depictions have formed and where they have come fr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lit into two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ion/Part A: Focuses on your cours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ion/Part B: Media and Collectiv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a)The first requires you to describe and evaluate your skills and development over the course of your production work,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ndation Portfoli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ced Portfol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b)The second asks you to identif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ion and evaluate it in relation to one theoretical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 Question (Section A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1 a) The question will relate to one or two of the following practice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igital Technolog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v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search and plan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ost-produc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sing conventions from real media tex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 Question (Section A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) Requires you to sele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duction and evaluate it in relation to a media concept. The list of concepts to which questions will relate is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d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 Languag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ys in which media products are constructed constitute methods of communication that we all recognise and readily decipher. This links to both verbal, visual and aural c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xamination, questions will be set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concepts on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A 1(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oose from AS or A2, main task or ancillary/preliminary ta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 will select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roduction that relates most to the conce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none of your productions relate to the task you must explain how and why they do not fit into that conce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revisio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t would be a good idea to consider how you would relate each of your productions to the different concepts to work out how to answer the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ction B: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edia and Collective Ident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will be a choice of two questions for your area. You will choo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question to answer using the case studies studied throughout the year and applying the different theoretical views that apply to the case study and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19:49Z</dcterms:created>
  <dc:creator>Martina</dc:creator>
  <dc:description/>
  <dc:language>en-US</dc:language>
  <cp:lastModifiedBy>martinaos</cp:lastModifiedBy>
  <dcterms:modified xsi:type="dcterms:W3CDTF">2010-09-10T07:01:35Z</dcterms:modified>
  <cp:revision>23</cp:revision>
  <dc:subject/>
  <dc:title>Critical Perspectives in the Media</dc:title>
</cp:coreProperties>
</file>